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F35-B0F9-475D-98EE-D9DD0851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552A-A8CB-4135-8FFB-2AE22F7F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530-8866-45E2-B98C-2AC1D815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447-6FEC-451B-BD35-03935FFE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4B6E-8AE6-497D-97F9-9075CB8E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DD18-0120-49BE-95B6-3C430A11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9DE1-414C-45C9-A1C3-F3721DD1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F5E3-ED1E-4295-AC2E-5D211C32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CD03-426F-4BB1-B866-6BDA8A95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F697-A495-4C78-B732-02326702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8C75-6C6C-46A7-86F5-C16B8380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8423-38B6-4D9C-929B-7E6D1065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748B-F8C6-4C88-8A5C-667DF327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DEDD-7C44-4889-9978-F58844E6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525A-4BF1-4180-8D0C-3BBB54EC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F2A2-7B3D-424D-A957-ED7A36E1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D49D-DE11-4BC5-A388-0FF503A0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803E-A7E5-402A-A19B-8EB12CB6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E14-0789-4E6A-8517-049AD20B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E19E-E3D8-4F42-9273-FB47CDBB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DBA-C4E7-4887-8D73-84EE4C61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AC10-D8C0-4028-B648-60D48FC6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016-D711-4F7D-B44F-CBD5A6E0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5A8-3E8C-4140-B403-96FD9E94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1439-960C-40FA-A90C-F627F0AE59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CFA6-3250-4BC4-8152-592DF06D74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ROJEKT – od pomysłu do realizacji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URO FUNDUSZY EUROPEJSK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ZĘDU MIASTA KRAK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888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1640" y="907920"/>
            <a:ext cx="71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łuży realizacji określonego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e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06560" y="1700280"/>
            <a:ext cx="813744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ie realizujemy go tylko dla samej realizacj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jekt jest zawsze częścią większego planu (programu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26028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siada skoordynowane i wzajemnie powiązane ze sobą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ział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773360"/>
            <a:ext cx="8520120" cy="49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izacja projektu wymaga podejmowania określonych działa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ektóre z nich są ze sobą powiązane w ten sposób, że podjęcie jednego wymaga zakończenia inn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ą też działania, które można prowadzić równole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 więcej powiązanych działań tym bardziej złożony i trudniejszy jest 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836640"/>
            <a:ext cx="83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Jest ograniczone w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zasi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oraz posiada określony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zaso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752480"/>
            <a:ext cx="914400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ma jasno określony początek i koni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zędziem które pomaga pilnować czasu trwania projektu jest harmon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ma przypisany określony budżet i zasoby (ludzkie, materiałowe), które określają jego 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42920" y="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yjątkowy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charak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836640"/>
            <a:ext cx="8610480" cy="45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kt jest przedsięwzięciem którego nie realizujemy codzien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st przedsięwzięciem dużym, o określonym stopniu trudności i zwykle nie jest przedsięwzięciem powtarzaln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funkcjonuje w innych uwarunkowaniach wewnętrznych i zewnętrz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67597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066680"/>
          <a:ext cx="3817800" cy="2308320"/>
        </p:xfrm>
        <a:graphic>
          <a:graphicData uri="http://schemas.openxmlformats.org/drawingml/2006/table">
            <a:tbl>
              <a:tblPr/>
              <a:tblGrid>
                <a:gridCol w="3817800"/>
              </a:tblGrid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YFIK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648320" y="1066680"/>
          <a:ext cx="3886200" cy="230508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OWA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130400" y="2994120"/>
          <a:ext cx="3598920" cy="2355840"/>
        </p:xfrm>
        <a:graphic>
          <a:graphicData uri="http://schemas.openxmlformats.org/drawingml/2006/table">
            <a:tbl>
              <a:tblPr/>
              <a:tblGrid>
                <a:gridCol w="3598920"/>
              </a:tblGrid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944960" y="3078000"/>
          <a:ext cx="3597480" cy="2355840"/>
        </p:xfrm>
        <a:graphic>
          <a:graphicData uri="http://schemas.openxmlformats.org/drawingml/2006/table">
            <a:tbl>
              <a:tblPr/>
              <a:tblGrid>
                <a:gridCol w="3597480"/>
              </a:tblGrid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2971800" y="1828800"/>
            <a:ext cx="3816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895480" y="1828800"/>
            <a:ext cx="3743280" cy="230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4114800"/>
            <a:ext cx="3816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111400"/>
            <a:ext cx="720720" cy="2232000"/>
          </a:xfrm>
          <a:custGeom>
            <a:avLst/>
            <a:gdLst>
              <a:gd name="textAreaLeft" fmla="*/ 211680 w 720720"/>
              <a:gd name="textAreaRight" fmla="*/ 721080 w 720720"/>
              <a:gd name="textAreaTop" fmla="*/ 92880 h 2232000"/>
              <a:gd name="textAreaBottom" fmla="*/ 213912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914400" y="1219320"/>
          <a:ext cx="3809880" cy="41846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1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YFIK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76920" y="1219320"/>
          <a:ext cx="3563640" cy="4176360"/>
        </p:xfrm>
        <a:graphic>
          <a:graphicData uri="http://schemas.openxmlformats.org/drawingml/2006/table">
            <a:tbl>
              <a:tblPr/>
              <a:tblGrid>
                <a:gridCol w="3563640"/>
              </a:tblGrid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reślenie potrze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żliwość ich    zaspokoje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niesienie do dokumentów planistyczny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7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09480" y="1295280"/>
          <a:ext cx="3810240" cy="452304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OWA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572000" y="1295280"/>
          <a:ext cx="3665520" cy="4515120"/>
        </p:xfrm>
        <a:graphic>
          <a:graphicData uri="http://schemas.openxmlformats.org/drawingml/2006/table">
            <a:tbl>
              <a:tblPr/>
              <a:tblGrid>
                <a:gridCol w="3665520"/>
              </a:tblGrid>
              <a:tr h="164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nia i harmonogr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ż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a zarządzają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685800" y="1295280"/>
          <a:ext cx="3809880" cy="45230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572000" y="1295280"/>
          <a:ext cx="3809880" cy="45259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rażanie działa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 wynikó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zowanie zagroże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09480" y="1143000"/>
          <a:ext cx="3810240" cy="452268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495680" y="1143000"/>
          <a:ext cx="3665520" cy="4518000"/>
        </p:xfrm>
        <a:graphic>
          <a:graphicData uri="http://schemas.openxmlformats.org/drawingml/2006/table">
            <a:tbl>
              <a:tblPr/>
              <a:tblGrid>
                <a:gridCol w="3665520"/>
              </a:tblGrid>
              <a:tr h="14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 efektó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rezultata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a niezgodności – działania korygują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e życie” proje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990033"/>
                </a:solidFill>
                <a:latin typeface="Arial"/>
              </a:rPr>
              <a:t>WYPEŁNIANIE WNIOSKU CZAS ZACZĄĆ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CHARAKTERYSTYK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3.1 Cel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zasadnij potrzebę realizacji projektu (wskaż problem/y, który/e chcesz rozwiąza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skaż cel ogólny oraz cele szczegółow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zasadnij zgodność celów z POKL, Planem Działań (i innymi dokumentami strategiczny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3.2 Grupy docelow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harakteryzuj osoby i/lub instytucje, które zostaną objęte wsparci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zasadnij wybór grupy docelowej, którą obejmiesz wsparci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isz sposób rekrutacji uczestnik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3.3 Działan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isz działania podejmowane w projekcie, zgodnie z chronologią z zadań wskazaną w budżecie i harmonogram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3.4 Rezulta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isz twarde i miękkie rezultaty projektu w odniesieniu do planowanych działa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isz, w jaki sposób rezultaty będą monitorowane, bad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sz, w jaki sposób rezultaty przyczynią się do realizacji celu projekt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REZULTA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33"/>
                </a:solidFill>
                <a:latin typeface="Arial"/>
              </a:rPr>
              <a:t>TWAR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czba osób, które znalazły prac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czba osób, które zostały przeszko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czba przeprowadzonych kurs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lość materiałów szkoleni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lość wydanych certyfikat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33"/>
                </a:solidFill>
                <a:latin typeface="Arial"/>
              </a:rPr>
              <a:t>MIĘKK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zrost wiedzy, motywacji, umiejęt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wijanie zdol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bycie nowych umiejętnoś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większenie zdolności komunikacyjn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Pomiar rezultató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adania ankietowe wśród uczestnik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Listy obecn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nformacje od uczestników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rawozdania z realizacj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3.5 Potencjał projektodawcy </a:t>
            </a:r>
            <a:br>
              <a:rPr sz="3800"/>
            </a:b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i zarządzanie projekte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isz doświadczenie w realizacji podobnych przedsięwzięć/projekt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isz, w jaki sposób projekt będzie zarządz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kie zaplecze techniczne oraz jaka kadra zaangażowane będą w realizację projektu (wskaż osoby/stanowiska w projek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pisz przychody, jakie osiągnął beneficjent/partnerzy za poprzedni rok obrot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isz rolę partnerów lub innych instytucji zaangażowanych w 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330033"/>
                </a:solidFill>
                <a:latin typeface="Times New Roman"/>
              </a:rPr>
              <a:t>Polityki horyzontalne UE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niesienie projektu do polityk horyzontalny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chrony środowisk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ołeczeństwa informacyjne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ównych sz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330033"/>
                </a:solidFill>
                <a:latin typeface="Times New Roman"/>
              </a:rPr>
              <a:t>Trwałość projektu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naliza aspektów, wpływających na trwałość przedsięwzię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tencjał finansow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tencjał organizacyj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tencjał merytorycz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 zasada pracy nad projektem mówi, że </a:t>
            </a:r>
            <a:r>
              <a:rPr b="0" lang="pl-PL" sz="2000" spc="-1" strike="noStrike">
                <a:solidFill>
                  <a:srgbClr val="990033"/>
                </a:solidFill>
                <a:latin typeface="Arial"/>
              </a:rPr>
              <a:t>NIE WOLNO ZACZYNAĆ OD WYPEŁNIANIA WNIOSKU O DOFINANSOWANI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nim zaczniesz wypełniać wniosek o dofinansowanie znajdź odpowiedź na pyta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chcesz zrobić i po co? (opis projektu z podziałem na cele, działania i rezulta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laczego warto się tego podjąć? (uzasadnie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la kogo są przeznaczone te działania? (beneficjenci ostatecz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ak ma wyglądać organizacja prac? (zarządza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to jest potrzebny do zrealizowania zadań? (zespó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le to będzie kosztowało i jak to chcesz sfinansować? (budż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chcesz osiągnąć i jak to sprawdzisz? (wskaźniki, monito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może Ci przeszkadzać w realizacji projektu? (ryzyk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330033"/>
                </a:solidFill>
                <a:latin typeface="Times New Roman"/>
              </a:rPr>
              <a:t>Potencjalne ryzyka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aliza ryzyk – sprecyzowanie czynników, które mogą zakłócić realizację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kładowe „przeszkody” w projektach miękki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chętnych do udziału w szkolen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wystarczającej liczby kandydatów spełniających wymagane kry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zygnacja uczestników w trakcie szkol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miany prawne i procedural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doświadczenia zespołu projektow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PROMO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stnieje obowiązek rozpowszechniania informacji o projekcie i jego współfinansowaniu ze środków unij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A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rtykuły i publikacje w prasie, na stronach internetow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eportaże w telewiz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Logo na materiałach szkoleniowych, stronach internetow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550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Kwestie formalne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d wypełnieniem wniosku przeczytaj INSTRUKCJ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razie wątpliwości skontaktuj się z jednostką przyjmując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iecznie zapoznaj się z programem, szczegółowo przeanalizuj uzasadnienia i cele priorytetów oraz działa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iosek wypełnij starannie, odpowiedz na wszystkie pytania w sposób konkretny, czytelny i wyczerpują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wróć uwagę na rodzaj czcionki (Arial 1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sposób podpisania wniosku (niebieski tus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pisują tylko upoważnione osob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łącz wszystkie załączniki dla swojej kategori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58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Najczęstsze błęd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748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stosowanie obowiązującego formula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ładanie wniosku w sposób niezgodny z regulaminem konkursu (z reguły regulaminy stanowią o sposobie oznaczenia wniosku, liczbie wymaganych kopii itp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ładanie wniosku po wyznaczonym termin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udzielenie odpowiedzi na wszystkie pytania wniosku bądź udzielenie odpowiedzi niezgodnej z treścią pytan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łożenie wniosku przez nieuprawnionego projektodawcę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spójności logicznej treści wniosk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dołączenie wszystkich wymaganych załącznik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58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Najczęstsze błęd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74872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godność z instrukcją wypełniania wnio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pis osoby nieupoważnio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cech projektu (nierozwojowe przedsięwzię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godność z wymaganiam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óżnice oryginał – ko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paraf, brak potwierdzenia za zgodność z oryginał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płynności finansowej projektodaw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wiedzy i doświadcz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gotowości do realiz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zy to takie trudne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052640"/>
            <a:ext cx="78375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95280" y="1628640"/>
            <a:ext cx="8555040" cy="4767120"/>
            <a:chOff x="395280" y="1628640"/>
            <a:chExt cx="8555040" cy="476712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6386400" y="1704960"/>
              <a:ext cx="2563920" cy="46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2224080" y="4066920"/>
              <a:ext cx="2743200" cy="19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3"/>
            <a:stretch/>
          </p:blipFill>
          <p:spPr>
            <a:xfrm>
              <a:off x="395280" y="1628640"/>
              <a:ext cx="1752480" cy="2209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02" name=""/>
            <p:cNvCxnSpPr/>
            <p:nvPr/>
          </p:nvCxnSpPr>
          <p:spPr>
            <a:xfrm>
              <a:off x="395280" y="3227760"/>
              <a:ext cx="1829520" cy="2305440"/>
            </a:xfrm>
            <a:prstGeom prst="curvedConnector5">
              <a:avLst>
                <a:gd name="adj1" fmla="val 1889"/>
                <a:gd name="adj2" fmla="val 49992"/>
                <a:gd name="adj3" fmla="val 1889"/>
              </a:avLst>
            </a:prstGeom>
            <a:ln w="47520">
              <a:solidFill>
                <a:srgbClr val="ffcc00"/>
              </a:solidFill>
              <a:miter/>
              <a:headEnd len="med" type="oval" w="med"/>
              <a:tailEnd len="med" type="triangle" w="med"/>
            </a:ln>
          </p:spPr>
        </p:cxnSp>
        <p:cxnSp>
          <p:nvCxnSpPr>
            <p:cNvPr id="203" name=""/>
            <p:cNvCxnSpPr>
              <a:stCxn id="200" idx="2"/>
              <a:endCxn id="199" idx="1"/>
            </p:cNvCxnSpPr>
            <p:nvPr/>
          </p:nvCxnSpPr>
          <p:spPr>
            <a:xfrm flipH="1" flipV="1" rot="5400000">
              <a:off x="4012200" y="3633840"/>
              <a:ext cx="1958040" cy="2791440"/>
            </a:xfrm>
            <a:prstGeom prst="curvedConnector5">
              <a:avLst>
                <a:gd name="adj1" fmla="val -11677"/>
                <a:gd name="adj2" fmla="val 37275"/>
                <a:gd name="adj3" fmla="val -11677"/>
              </a:avLst>
            </a:prstGeom>
            <a:ln w="44280">
              <a:solidFill>
                <a:srgbClr val="ffcc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Times New Roman"/>
              </a:rPr>
              <a:t>Logika interwencji projektu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1760" y="5573880"/>
            <a:ext cx="103716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Wkł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17320" y="5668920"/>
            <a:ext cx="149148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0033"/>
                </a:solidFill>
                <a:latin typeface="Arial Narrow"/>
              </a:rPr>
              <a:t>Dział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0033"/>
                </a:solidFill>
                <a:latin typeface="Arial Narrow"/>
              </a:rPr>
              <a:t>(activ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89800" y="4262400"/>
            <a:ext cx="210384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Produ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dobra i usług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2205000"/>
            <a:ext cx="3276720" cy="143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Narrow"/>
              </a:rPr>
              <a:t>Rezult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bezpośrednie i natychmiastowe efek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4800" y="549360"/>
            <a:ext cx="335304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Narrow"/>
              </a:rPr>
              <a:t>Oddziały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długoterminowe efek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95560" y="3728880"/>
            <a:ext cx="304920" cy="381240"/>
          </a:xfrm>
          <a:prstGeom prst="upArrow">
            <a:avLst>
              <a:gd name="adj1" fmla="val 41667"/>
              <a:gd name="adj2" fmla="val 3125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649840"/>
            <a:ext cx="838080" cy="304920"/>
          </a:xfrm>
          <a:prstGeom prst="rightArrow">
            <a:avLst>
              <a:gd name="adj1" fmla="val 42704"/>
              <a:gd name="adj2" fmla="val 5257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95560" y="5253120"/>
            <a:ext cx="304920" cy="380880"/>
          </a:xfrm>
          <a:prstGeom prst="upArrow">
            <a:avLst>
              <a:gd name="adj1" fmla="val 41667"/>
              <a:gd name="adj2" fmla="val 312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95560" y="1671480"/>
            <a:ext cx="304920" cy="381240"/>
          </a:xfrm>
          <a:prstGeom prst="upArrow">
            <a:avLst>
              <a:gd name="adj1" fmla="val 41667"/>
              <a:gd name="adj2" fmla="val 3125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16720" y="824040"/>
            <a:ext cx="304920" cy="4038480"/>
          </a:xfrm>
          <a:custGeom>
            <a:avLst/>
            <a:gdLst>
              <a:gd name="textAreaLeft" fmla="*/ 0 w 304920"/>
              <a:gd name="textAreaRight" fmla="*/ 110160 w 30492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835520" y="776160"/>
            <a:ext cx="533160" cy="4038480"/>
            <a:chOff x="4835520" y="776160"/>
            <a:chExt cx="533160" cy="4038480"/>
          </a:xfrm>
        </p:grpSpPr>
        <p:sp>
          <p:nvSpPr>
            <p:cNvPr id="113" name=""/>
            <p:cNvSpPr/>
            <p:nvPr/>
          </p:nvSpPr>
          <p:spPr>
            <a:xfrm>
              <a:off x="4911480" y="4510080"/>
              <a:ext cx="457200" cy="304560"/>
            </a:xfrm>
            <a:prstGeom prst="rightArrow">
              <a:avLst>
                <a:gd name="adj1" fmla="val 42704"/>
                <a:gd name="adj2" fmla="val 2871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35520" y="2681280"/>
              <a:ext cx="457200" cy="304560"/>
            </a:xfrm>
            <a:prstGeom prst="rightArrow">
              <a:avLst>
                <a:gd name="adj1" fmla="val 42704"/>
                <a:gd name="adj2" fmla="val 2871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35520" y="776160"/>
              <a:ext cx="457200" cy="304920"/>
            </a:xfrm>
            <a:prstGeom prst="rightArrow">
              <a:avLst>
                <a:gd name="adj1" fmla="val 42704"/>
                <a:gd name="adj2" fmla="val 2868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659200" y="4292640"/>
            <a:ext cx="160416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operacyj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7200" y="2421000"/>
            <a:ext cx="154152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ząstk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59560" y="620640"/>
            <a:ext cx="105228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ogól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6276240" y="2685240"/>
            <a:ext cx="3811680" cy="5205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Cel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448920"/>
            <a:ext cx="84326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Wkład (inpu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28400"/>
            <a:ext cx="837576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34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oby zaangażowane przez beneficjenta w trakcie wdrażania daneg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34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oby finansowe, zasoby ludzkie, zasoby materialne, zasoby organizacyjne i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448920"/>
            <a:ext cx="8280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Produkt (outpu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0">
              <a:lnSpc>
                <a:spcPct val="170000"/>
              </a:lnSpc>
              <a:spcBef>
                <a:spcPts val="8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szystkie produkty materialne i usługi, które otrzymuje beneficjent w trakcie realizacji projektu przy wykorzystaniu zaangażowanych zasobó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48920"/>
            <a:ext cx="82040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Rezultat (resul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zpośrednie i natychmiastowe efekty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miany, jakie nastąpiły w wyniku wdrożenia projektu u bezpośrednich beneficjentów pomo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920000" cy="1076400"/>
          </a:xfrm>
          <a:prstGeom prst="rect">
            <a:avLst/>
          </a:prstGeom>
          <a:solidFill>
            <a:srgbClr val="a7be3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CEL – pozytywny, oczekiwany stan w przyszłości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560" y="5229000"/>
            <a:ext cx="7479000" cy="990360"/>
          </a:xfrm>
          <a:prstGeom prst="rect">
            <a:avLst/>
          </a:prstGeom>
          <a:solidFill>
            <a:srgbClr val="f14f5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ywny obraz rzeczywist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5760"/>
            <a:ext cx="37134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0033"/>
                </a:solidFill>
                <a:latin typeface="Times New Roman"/>
              </a:rPr>
              <a:t>Rola projektu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2205000"/>
            <a:ext cx="4465440" cy="287964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245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to jest projekt 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765000"/>
            <a:ext cx="86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349360"/>
            <a:ext cx="891540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łuży realizacji określoneg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el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ada skoordynowane i wzajemnie powiązane ze sobą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ział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st ograniczone w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zasi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ma określony początek i koniec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ada określon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dżet i zasob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a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yjątkow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arak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9280" y="15238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zedsięwzięcie, któ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19:33:03Z</dcterms:created>
  <dc:creator>ania</dc:creator>
  <dc:description/>
  <dc:language>en-US</dc:language>
  <cp:lastModifiedBy>lalickma</cp:lastModifiedBy>
  <dcterms:modified xsi:type="dcterms:W3CDTF">2007-12-13T11:15:16Z</dcterms:modified>
  <cp:revision>16</cp:revision>
  <dc:subject/>
  <dc:title>PROJEKT – od pomysłu do realizacj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23097762</vt:r8>
  </property>
  <property fmtid="{D5CDD505-2E9C-101B-9397-08002B2CF9AE}" pid="3" name="_AuthorEmail">
    <vt:lpwstr>siekieew@ws_nt7.umk</vt:lpwstr>
  </property>
  <property fmtid="{D5CDD505-2E9C-101B-9397-08002B2CF9AE}" pid="4" name="_AuthorEmailDisplayName">
    <vt:lpwstr>Siekierzyńska Ewa</vt:lpwstr>
  </property>
  <property fmtid="{D5CDD505-2E9C-101B-9397-08002B2CF9AE}" pid="5" name="_EmailSubject">
    <vt:lpwstr>materiały na portal</vt:lpwstr>
  </property>
</Properties>
</file>